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2.jpeg" ContentType="image/jpeg"/>
  <Override PartName="/ppt/media/image13.png" ContentType="image/png"/>
  <Override PartName="/ppt/media/image11.png" ContentType="image/pn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20.jpeg" ContentType="image/jpeg"/>
  <Override PartName="/ppt/media/image19.png" ContentType="image/png"/>
  <Override PartName="/ppt/media/image18.jpeg" ContentType="image/jpeg"/>
  <Override PartName="/ppt/media/image17.png" ContentType="image/png"/>
  <Override PartName="/ppt/media/image16.jpeg" ContentType="image/jpeg"/>
  <Override PartName="/ppt/media/image15.png" ContentType="image/png"/>
  <Override PartName="/ppt/media/image14.jpeg" ContentType="image/jpeg"/>
  <Override PartName="/ppt/media/image4.jpeg" ContentType="image/jpeg"/>
  <Override PartName="/ppt/media/image2.png" ContentType="image/png"/>
  <Override PartName="/ppt/media/image3.png" ContentType="image/png"/>
  <Override PartName="/ppt/media/image6.jpeg" ContentType="image/jpeg"/>
  <Override PartName="/ppt/media/image7.png" ContentType="image/png"/>
  <Override PartName="/ppt/media/image1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dt" idx="1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move the slide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ftr" idx="1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6"/>
          <p:cNvSpPr>
            <a:spLocks noGrp="1"/>
          </p:cNvSpPr>
          <p:nvPr>
            <p:ph type="sldNum" idx="1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A3BFF-1A7E-471B-BB6B-14615E4AA05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EC4AF-D1CB-4B28-ACA3-155B66234929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7F183-A049-4C33-9B58-DC0176BB5071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FD692-0AD3-427F-B067-A32E9230D13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D9D4F-5C06-4A94-B294-E7DC1A4B6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64C76-1B09-4C61-A14B-5B5E5DCA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B8F87-6363-453E-BC9A-4773207170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362-54EE-4B32-AB25-53B3C9E23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CFC601D-1E4F-42FF-8FCB-549AD6BF8E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269858C-EF37-4B7B-8419-CDCCFA7DC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BDC9D2F-7AF2-4D52-95C6-2E0172AA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8A4189-A389-4D16-B232-EBD5CA016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FBF224-D76C-46A4-ABA1-36E172E8C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155B276-EE3B-4410-B28A-C9CCC6E6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C801BA5-79D2-49FA-BC9D-8F8D5BA79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E9A97-A2C9-49CB-BD74-E27A3973D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DE06A9-FCB5-4A07-B063-60A9E322E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3CB47E-73DD-41B1-BC4A-CB2CEDDB6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9E54AC-6BE3-40E0-9C96-D8372E2CA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0631C3C-8ED7-4ED5-8FA7-368F43045B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D909217-6AAA-49C7-9F0D-6C11FAB8E5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DE9F0-477C-4838-9A1B-3A586173D9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6D457B-71C7-4D9D-9FC6-DA5E0B992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6C88DC-779B-4631-BE2E-793FB85AAA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C18E6E-61CC-4078-84D9-E48798F015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3C8C6E-5D37-4DDC-829A-0FF4ED90F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A0D8-6792-4F2C-AA29-C07C696AB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C81218-CA8C-4E67-A4F1-277585844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89443E-F6C6-4AB8-BB19-6005943BC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C09B8A-D18F-4025-A8DB-8E0FFCC35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2B92A1-3DD7-4B21-9FFD-BC6677783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78B0FC-D634-4D74-BB44-DD8C0871B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900208-DD2C-4542-9910-354508268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B4AD13-DDE5-47FA-8F2F-2919CA8E0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150C1E-B689-4C96-87C7-38BAF5F497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04953DD-C146-47E3-BFF5-0AD59EECD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D20CAF-94FB-466A-BD84-A4D49A35C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5E2B3-3D34-4177-B71E-5650C3DAD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806C8C-3C7F-4A45-A9C0-ACBA70B1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168D0F9-F56B-4BBB-9332-7D1880484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1B5F5C2-2406-41D6-8B90-95323D17C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E066888-420F-4624-B102-44523CB3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049F61B-DA36-4DC6-ACEF-14FD0CD43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C1AAC6-6914-4736-8C7E-0821EE191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C001E07-AD27-4B03-8531-3F20754F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AA1C60-A0AA-4C9D-8951-C1939DF425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595C7F4-65AF-4B34-A6DC-BEE4AD67E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6F082-D690-4941-9B3E-9F03E3E56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8864D-070D-4C3A-8C06-77CF99766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5C7AE-5EB6-4315-AF6C-29CC4E8D6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482B-D6A4-4425-948F-1DC79587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AEEDE-AA45-44CD-B42D-C98532D59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3B725-300B-4A46-AB1F-F987BDE864F1}" type="slidenum">
              <a:rPr b="0" lang="ru-RU" sz="16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FE564-B8F3-4C2A-AE87-DE4138020C96}" type="slidenum">
              <a:rPr b="0" lang="ru-RU" sz="16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FA7D6-6666-40C9-A830-8403021CA824}" type="slidenum">
              <a:rPr b="0" lang="ru-RU" sz="16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fffef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000000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a5b59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685AF-46AD-4E06-90D2-6E1AE29A3A72}" type="slidenum">
              <a:rPr b="0" lang="ru-RU" sz="1600" spc="-1" strike="noStrike">
                <a:solidFill>
                  <a:srgbClr val="a5b592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Волна 5"/>
          <p:cNvSpPr/>
          <p:nvPr/>
        </p:nvSpPr>
        <p:spPr>
          <a:xfrm>
            <a:off x="1285920" y="1000080"/>
            <a:ext cx="6357960" cy="1714680"/>
          </a:xfrm>
          <a:custGeom>
            <a:avLst/>
            <a:gdLst>
              <a:gd name="textAreaLeft" fmla="*/ 0 w 6357960"/>
              <a:gd name="textAreaRight" fmla="*/ 6358320 w 6357960"/>
              <a:gd name="textAreaTop" fmla="*/ 428760 h 1714680"/>
              <a:gd name="textAreaBottom" fmla="*/ 1286280 h 1714680"/>
            </a:gdLst>
            <a:ahLst/>
            <a:rect l="textAreaLeft" t="textAreaTop" r="textAreaRight" b="textAreaBottom"/>
            <a:pathLst>
              <a:path w="21600" h="21600">
                <a:moveTo>
                  <a:pt x="0" y="2700"/>
                </a:moveTo>
                <a:cubicBezTo>
                  <a:pt x="7200" y="-6865"/>
                  <a:pt x="14400" y="12265"/>
                  <a:pt x="21600" y="2700"/>
                </a:cubicBezTo>
                <a:lnTo>
                  <a:pt x="21600" y="18900"/>
                </a:lnTo>
                <a:cubicBezTo>
                  <a:pt x="14400" y="28465"/>
                  <a:pt x="7200" y="9335"/>
                  <a:pt x="0" y="18900"/>
                </a:cubicBezTo>
                <a:close/>
              </a:path>
            </a:pathLst>
          </a:custGeom>
          <a:solidFill>
            <a:srgbClr val="92d050"/>
          </a:solidFill>
          <a:ln w="38160">
            <a:solidFill>
              <a:srgbClr val="78846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3700080"/>
            <a:ext cx="830592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Работу выполнила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ученица 3»А»класса МОУ лицея №35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г. Ставрополя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a5b592"/>
                </a:solidFill>
                <a:latin typeface="Constantia"/>
              </a:rPr>
              <a:t> </a:t>
            </a:r>
            <a:r>
              <a:rPr b="0" lang="ru-RU" sz="2200" spc="-1" strike="noStrike">
                <a:solidFill>
                  <a:srgbClr val="00b050"/>
                </a:solidFill>
                <a:latin typeface="Constantia"/>
              </a:rPr>
              <a:t>Пшеничная Анна.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79" name="Rectangle 2" descr=""/>
          <p:cNvPicPr/>
          <p:nvPr/>
        </p:nvPicPr>
        <p:blipFill>
          <a:blip r:embed="rId1"/>
          <a:stretch/>
        </p:blipFill>
        <p:spPr>
          <a:xfrm>
            <a:off x="1133640" y="920880"/>
            <a:ext cx="6876720" cy="14443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0" y="1125360"/>
            <a:ext cx="9144000" cy="573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тяника- многолетнее травянистое растение высотой 15-30 см. стебли 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енки листьев покрыты тонкими шипами и оттопыренным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осками. Листья с обеих сторон зеленые, волосистые. Цветк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раны в соцветие, состоящие из 3-10 цветков. Плод состоит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1-6 ярко-красных, сочных, едва соединенных между соб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лодов, похожих на шарики. Цветет с мая по июнь. Плод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ъедобные, кислы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т в тенистых лесах, среди кустарник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на болотах. Костянику прозвали «ползучий хмель» 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хмелевидная калина». Размножается она очень быстро. Ус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тягиваются до 3 м в длину; за сутки вырастают на 3-4 см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тяника растет везде- тени совершенно не боится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плодов костяники готовят сироп, варенье, сок, компоты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исели, желе, морс, квас. Засахаренные свежие ягоды долго сохраняются. Листья и цветк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дут на приготовление напитков. Чай из листьев костяники ароматен и очень полезен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стяника содержит большое количество полезных витаминов для кожи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5" name="Rectangle 2" descr=""/>
          <p:cNvPicPr/>
          <p:nvPr/>
        </p:nvPicPr>
        <p:blipFill>
          <a:blip r:embed="rId1"/>
          <a:stretch/>
        </p:blipFill>
        <p:spPr>
          <a:xfrm>
            <a:off x="493560" y="-146160"/>
            <a:ext cx="8242560" cy="13953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4" descr="костяника"/>
          <p:cNvPicPr/>
          <p:nvPr/>
        </p:nvPicPr>
        <p:blipFill>
          <a:blip r:embed="rId2"/>
          <a:stretch/>
        </p:blipFill>
        <p:spPr>
          <a:xfrm>
            <a:off x="250920" y="1557360"/>
            <a:ext cx="2388960" cy="345600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250560" y="1196640"/>
            <a:ext cx="8569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</a:t>
            </a:r>
            <a:r>
              <a:rPr b="0" lang="ru-RU" sz="1400" spc="-1" strike="noStrike">
                <a:solidFill>
                  <a:srgbClr val="00b050"/>
                </a:solidFill>
                <a:latin typeface="Times New Roman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Ежевика- кустарник высотой до 3м. Стебли прямые или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вешивающиеся, с шипами. Цветки белые или розовые,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браны на концах ветвей. Листья тройчатые, светло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еленого цвета, по краю зубчатые, с обеих сторон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осистые. Плоды блестящие, черные. Они имеют кисло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адкий, терпкий вкус. Запах слабый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т в диком виде по берегам рек, во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лажных лесах. Их заросли, часто совершенн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проходимые из-за изогнутых колючек на ветка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имые места ежевики- светлые леса, вырубки, обочин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рог и солнечные склоны. Особенность ежевики в том, чт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на цветет с мая до зимы.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з листьев ежевики готовят вкусный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 полезный чай. Очень полезен ежевичный сок. Плоды ежевики применяю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болях в суставах, воспалении почек, при кашле. Свежие ягод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потребляют в пищу. Они, подобно малине, обладают способностью утолять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ажду. В сыром и сушеном виде ягоды ежевики используют для варки варенья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чинки для пирогов, приготовления настоек, сиропов, пастилы и компотов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1" name="Rectangle 2" descr=""/>
          <p:cNvPicPr/>
          <p:nvPr/>
        </p:nvPicPr>
        <p:blipFill>
          <a:blip r:embed="rId1"/>
          <a:stretch/>
        </p:blipFill>
        <p:spPr>
          <a:xfrm>
            <a:off x="895320" y="-6480"/>
            <a:ext cx="7785000" cy="11588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4" descr="SWScan00059"/>
          <p:cNvPicPr/>
          <p:nvPr/>
        </p:nvPicPr>
        <p:blipFill>
          <a:blip r:embed="rId2"/>
          <a:stretch/>
        </p:blipFill>
        <p:spPr>
          <a:xfrm>
            <a:off x="179280" y="1628640"/>
            <a:ext cx="2195640" cy="3014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 txBox="1"/>
          <p:nvPr/>
        </p:nvSpPr>
        <p:spPr>
          <a:xfrm>
            <a:off x="250920" y="119700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ccff"/>
                </a:solidFill>
                <a:latin typeface="Times New Roman"/>
              </a:rPr>
              <a:t>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ина- полукустарник с прямыми высокими стеблями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ножество корней малины проходит через землю и дает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овые побеги. Листья состоят из трех листочков, зубчат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краю. Сверху они темно-зеленые, снизу беловатые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ушены мелкими волосками. Цветки белые, собраны в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ебольшие соцветия. Плоды красные, у садовых сортов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ывают желтые, ароматные, сладк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ина образует небольшие заросли там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де когда-то были старые поселения, поэтому сохранились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лои земной земли, перемешанной с золой и углями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алина устроена так, что может перезимовать даже пр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чень сильных морозах под укрытием толстого снежног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крова. Малина поздно зацветает, цветы появляются лишь в июн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у ягоду ценят не только за вкус и аромат, но и за е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дивительные целебные свойства. Малина не теряет своих полезных качеств даже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сле тепловой обработки. Цветы малины дают много нектара, из которого пчелы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елают вкусный мед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4" name="Rectangle 2" descr=""/>
          <p:cNvPicPr/>
          <p:nvPr/>
        </p:nvPicPr>
        <p:blipFill>
          <a:blip r:embed="rId1"/>
          <a:stretch/>
        </p:blipFill>
        <p:spPr>
          <a:xfrm>
            <a:off x="353880" y="-146160"/>
            <a:ext cx="8240760" cy="1395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4" descr="SWScan00060"/>
          <p:cNvPicPr/>
          <p:nvPr/>
        </p:nvPicPr>
        <p:blipFill>
          <a:blip r:embed="rId2"/>
          <a:stretch/>
        </p:blipFill>
        <p:spPr>
          <a:xfrm>
            <a:off x="179280" y="1628640"/>
            <a:ext cx="2216160" cy="31687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179280" y="1413000"/>
            <a:ext cx="8964720" cy="52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роний глаз- многолетнее травянистое растение. Стебель прямой,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ладкий, высотой 15-45 см. четыре листа яйцевидной формы,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остренные, голые, собраны в верхней части стебля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ы накрест. Цветок один, приподнят над основанием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ьев. Состоит из 4-5 наружных зеленых листочков и 4-5 боле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зких и коротких, желтовато-зеленых внутренних неопадающи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очков. Из цветка развивается плод - синевато-черная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естящая ягода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т в тенистых лиственных, смешанных 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хвойных лесах во влажной почве. Цветет с мая по июнь. Плоды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зревают в июне и август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</a:t>
            </a: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давние времена верили, что «заколдованных» людей можно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расколдовать» с помощью вороньего глаза.  В народной медицине настойку растения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меняют в виде капель при головных болях, болезнях горла, а также как средство,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улучшающее аппетит. Свежий сок растения употребляют при заболеваниях глаз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овной боли, потере сознания. Применение вороньего глаза требует особ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сторожности, так как в большой дозе вызывает отравлени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87" name="Rectangle 2" descr=""/>
          <p:cNvPicPr/>
          <p:nvPr/>
        </p:nvPicPr>
        <p:blipFill>
          <a:blip r:embed="rId1"/>
          <a:stretch/>
        </p:blipFill>
        <p:spPr>
          <a:xfrm>
            <a:off x="463680" y="-139680"/>
            <a:ext cx="8242200" cy="153036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4" descr="вороний глаз"/>
          <p:cNvPicPr/>
          <p:nvPr/>
        </p:nvPicPr>
        <p:blipFill>
          <a:blip r:embed="rId2"/>
          <a:stretch/>
        </p:blipFill>
        <p:spPr>
          <a:xfrm>
            <a:off x="250920" y="1773360"/>
            <a:ext cx="2138400" cy="286992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 txBox="1"/>
          <p:nvPr/>
        </p:nvSpPr>
        <p:spPr>
          <a:xfrm>
            <a:off x="250560" y="1267920"/>
            <a:ext cx="889308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юква- вечнозеленый полукустарник со стелющимися, тонким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теблями. Стебли гибкие, темно-бурые. Листья кожистые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блестящие, темно-зеленые, снизу сизоватые от воскового налета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стами с маленькими железистыми волосками. Цветки розово-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ые, свисающие, расположены по одному или собраны чащ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2-4, реже- по 6 бутонов на прошлогодних ветвя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юква образует заросли на торфяных болота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т так же и во влажных лесах, на вырубках, возле пней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ветет в мае-июне, плоды созревают в конце августа и в сентябре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 содержанию полезных веществ,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люква- одна из самых полезных ягод. Плоды широко применяют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 лечении и многих заболеваниях. Клюквенный сок очищает раны и ожоги, ускоряет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 заживление. Сок в сочетании с медом пьют при кашле, ангине, простуде, остры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еспираторных заболеваниях. Клюкву собирают осенью в три срок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59200" indent="-259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0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39716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клюква"/>
          <p:cNvPicPr/>
          <p:nvPr/>
        </p:nvPicPr>
        <p:blipFill>
          <a:blip r:embed="rId2"/>
          <a:stretch/>
        </p:blipFill>
        <p:spPr>
          <a:xfrm>
            <a:off x="179280" y="1773360"/>
            <a:ext cx="2232000" cy="316836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 txBox="1"/>
          <p:nvPr/>
        </p:nvSpPr>
        <p:spPr>
          <a:xfrm>
            <a:off x="250560" y="1197000"/>
            <a:ext cx="8713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b050"/>
                </a:solidFill>
                <a:latin typeface="Times New Roman"/>
              </a:rPr>
              <a:t>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Черника- многолетний, низкий (до 4 см) полукустарник. Растение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ильно ветвистое, с серебристыми стеблями и зеленовато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рой. Листья светло-зеленые, тонкие. Цветки мелкие, розовые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положены по одному на коротких цветоножках в пазуха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ьев. Плоды- шарообразные ягоды размером 5-8 мм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наружи окрашены в сине-черный цвет, сок ягод черники-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расный. Много мелких семян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т в хвойных и смешанных лесах, в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ундрах, на склонах гор и недалеко от болот. Черника особенн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юбит сосновые боры. На зиму листья опадают. Цветет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ние в мае- июне. Плоды созревают в июле-август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  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уществует убеждение, что в том доме,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де едят чернику, врачу нечего делать. Собирают ягоды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ждавшись</a:t>
            </a: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х полной зрелости, в сухую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огоду, утром, когда сойдет роса. Плоды черники улучшают зрение и память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годы часто используют в пищевом производстве, для изготовления тортов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ирожных, киселей, мармелада и т.д. Черника- прекрасный медонос. Мед, собранны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 цветков черники, имеет светло- красноватый оттенок, нежный аромат и приятный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кус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3" name="Rectangle 2" descr=""/>
          <p:cNvPicPr/>
          <p:nvPr/>
        </p:nvPicPr>
        <p:blipFill>
          <a:blip r:embed="rId1"/>
          <a:stretch/>
        </p:blipFill>
        <p:spPr>
          <a:xfrm>
            <a:off x="420840" y="-219240"/>
            <a:ext cx="8242200" cy="13957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4" descr="черника"/>
          <p:cNvPicPr/>
          <p:nvPr/>
        </p:nvPicPr>
        <p:blipFill>
          <a:blip r:embed="rId2"/>
          <a:stretch/>
        </p:blipFill>
        <p:spPr>
          <a:xfrm>
            <a:off x="324000" y="1557360"/>
            <a:ext cx="2139840" cy="3095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 txBox="1"/>
          <p:nvPr/>
        </p:nvSpPr>
        <p:spPr>
          <a:xfrm>
            <a:off x="250920" y="1268280"/>
            <a:ext cx="864216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ccff"/>
                </a:solidFill>
                <a:latin typeface="Times New Roman"/>
              </a:rPr>
              <a:t>               </a:t>
            </a:r>
            <a:r>
              <a:rPr b="1" lang="ru-RU" sz="17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емляника лесная – многолетнее травянистое растение. Это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растение высотой 5-20 см. листья тройчатые на длинных черешках. Цветки белые, с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ятью лепестками, на длинных цветоножках. Плоды- ярко-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красные, очень душистые, сладкие на вкус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700" spc="-1" strike="noStrike">
                <a:solidFill>
                  <a:srgbClr val="00b050"/>
                </a:solidFill>
                <a:latin typeface="Times New Roman"/>
              </a:rPr>
              <a:t>Где и как растут.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емляника лесная распространена почти по 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сей территории европейской части России (кроме Крайнего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евера, районов Причерноморья и низовьев Волги), а также в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редней Азии и Сибири. Любимыми местами обитания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емляники являются светлые изреженные леса, опушки, поляны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и вырубки. Больших по площади зарослей она не образует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Цветет в мае-июне. Плоды созревают в июне-июле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b050"/>
                </a:solidFill>
                <a:latin typeface="Times New Roman"/>
              </a:rPr>
              <a:t>Польза и применение.</a:t>
            </a:r>
            <a:r>
              <a:rPr b="1" lang="ru-RU" sz="1700" spc="-1" strike="noStrike">
                <a:solidFill>
                  <a:srgbClr val="00ccff"/>
                </a:solidFill>
                <a:latin typeface="Times New Roman"/>
              </a:rPr>
              <a:t> </a:t>
            </a: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Земляника является одной из первых ягод, которой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пользовалось человечество, и которую применяли многие народы с лечебной целью.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обирают только зрелых плоды, без плодоножек и чашечек. Лесную землянику едят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в свежем виде. Готовят на нее варенье, джемы, кисели, компоты, желе, пастилу и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ароматные чаи. Из ягод получают сок. Также используется и как косметическое 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Times New Roman"/>
              </a:rPr>
              <a:t>средство.</a:t>
            </a: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6" name="Rectangle 2" descr=""/>
          <p:cNvPicPr/>
          <p:nvPr/>
        </p:nvPicPr>
        <p:blipFill>
          <a:blip r:embed="rId1"/>
          <a:stretch/>
        </p:blipFill>
        <p:spPr>
          <a:xfrm>
            <a:off x="390600" y="-6480"/>
            <a:ext cx="8240760" cy="13971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4" descr="земляника лесная"/>
          <p:cNvPicPr/>
          <p:nvPr/>
        </p:nvPicPr>
        <p:blipFill>
          <a:blip r:embed="rId2"/>
          <a:stretch/>
        </p:blipFill>
        <p:spPr>
          <a:xfrm>
            <a:off x="285840" y="1857240"/>
            <a:ext cx="1857240" cy="28292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 txBox="1"/>
          <p:nvPr/>
        </p:nvSpPr>
        <p:spPr>
          <a:xfrm>
            <a:off x="250560" y="1197000"/>
            <a:ext cx="87138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</a:t>
            </a:r>
            <a:r>
              <a:rPr b="0" lang="ru-RU" sz="1800" spc="-1" strike="noStrike">
                <a:solidFill>
                  <a:srgbClr val="00b050"/>
                </a:solidFill>
                <a:latin typeface="Constanti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убика- сильноветвистый кустарник, средней высоты, с прямыми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вями и с буроватой или темно- серой корой. Молодые веточки зеленые. Листья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мелкие, на верхушке тупые, реже заостренные, с немного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загнутыми вниз краями и негустыми лиловатыми желёзками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жесткие, сверху голубовато-зеленые, снизу более светлы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ья на зиму опадают. Цветки поникающие, расположены по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2-3. Плоды- ягоды, шаровидной, грушевидной или продолговатой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формы. Они синие, с сизым налетом, внутри зеленоватая мякоть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вкус- кисло- сладкие.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Растет на болотах в сырых хвойных и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лиственных лесах. Цветет в июне-июле, плоды созревают в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густе-сентябре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лубика издавна ценится в народной медицине. Свежие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годы применяют для приготовления витаминных напитков, морсов для больных с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ысокой температурой. При сборе необходимо соблюдать осторожность, так как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ягоды легко мнутся, поэтому плоды собирают вручную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99" name="Rectangle 2" descr=""/>
          <p:cNvPicPr/>
          <p:nvPr/>
        </p:nvPicPr>
        <p:blipFill>
          <a:blip r:embed="rId1"/>
          <a:stretch/>
        </p:blipFill>
        <p:spPr>
          <a:xfrm>
            <a:off x="420840" y="-79200"/>
            <a:ext cx="8242200" cy="139536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голубика"/>
          <p:cNvPicPr/>
          <p:nvPr/>
        </p:nvPicPr>
        <p:blipFill>
          <a:blip r:embed="rId2"/>
          <a:stretch/>
        </p:blipFill>
        <p:spPr>
          <a:xfrm>
            <a:off x="285840" y="1916280"/>
            <a:ext cx="2038320" cy="28796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 txBox="1"/>
          <p:nvPr/>
        </p:nvSpPr>
        <p:spPr>
          <a:xfrm>
            <a:off x="179280" y="1483920"/>
            <a:ext cx="896472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Как выгляди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чье лыко- невысокий кустарник с серо- коричневой корой, из 2-3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еточек, если растение растет в лесу. Кора мочалистая, очень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очная. Из-за этой коры сломать ветку очень трудно. Листья растут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 основном на концах ветвей. Цветет лыко до распускания листьев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Цветы розовые, с приятным запахом, расположены по 2-3 в пазухах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авших прошлогодних листьев. Косточка яйцевидная, блестящая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темно-бурая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Где и как растет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олчье лыко любит тенистые места. Растет по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опушкам, в лесах, по берегам ручьев и в живых изгородях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Встречается, как правило, на больших расстояниях друг от друга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ходится под охраной. Плоды созревают в июле-августе.</a:t>
            </a:r>
            <a:r>
              <a:rPr b="1" lang="ru-RU" sz="1800" spc="-1" strike="noStrike">
                <a:solidFill>
                  <a:srgbClr val="00cc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b050"/>
                </a:solidFill>
                <a:latin typeface="Times New Roman"/>
              </a:rPr>
              <a:t>Польза и применение.</a:t>
            </a:r>
            <a:r>
              <a:rPr b="0" lang="ru-RU" sz="1800" spc="-1" strike="noStrike">
                <a:solidFill>
                  <a:srgbClr val="00b05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Эти ягоды, а также- листья, цветы и кора, очень ядовиты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прикосновение с кожей любой части растения вызывает сильное раздражение. С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использованием свежей коры волчьего лыка, которую собирают перед началом цветения,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marL="270000" indent="-2700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готовят лекарственное средство. Растение обладает свойством убивать насекомых.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202" name="Rectangle 2" descr=""/>
          <p:cNvPicPr/>
          <p:nvPr/>
        </p:nvPicPr>
        <p:blipFill>
          <a:blip r:embed="rId1"/>
          <a:stretch/>
        </p:blipFill>
        <p:spPr>
          <a:xfrm>
            <a:off x="390600" y="-231840"/>
            <a:ext cx="8240760" cy="162252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4" descr="волчье лыко"/>
          <p:cNvPicPr/>
          <p:nvPr/>
        </p:nvPicPr>
        <p:blipFill>
          <a:blip r:embed="rId2"/>
          <a:stretch/>
        </p:blipFill>
        <p:spPr>
          <a:xfrm>
            <a:off x="142920" y="1989000"/>
            <a:ext cx="2000160" cy="3083040"/>
          </a:xfrm>
          <a:prstGeom prst="rect">
            <a:avLst/>
          </a:prstGeom>
          <a:ln w="0">
            <a:noFill/>
          </a:ln>
        </p:spPr>
      </p:pic>
    </p:spTree>
  </p:cSld>
  <p:transition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1T06:24:20Z</dcterms:created>
  <dc:creator>Computer</dc:creator>
  <dc:description/>
  <dc:language>en-US</dc:language>
  <cp:lastModifiedBy>user</cp:lastModifiedBy>
  <dcterms:modified xsi:type="dcterms:W3CDTF">2009-01-13T11:24:46Z</dcterms:modified>
  <cp:revision>15</cp:revision>
  <dc:subject/>
  <dc:title>ЛЕСНЫЕ ЯГОДЫ</dc:title>
</cp:coreProperties>
</file>